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5B81-AA26-4B0E-8871-25BDE9F53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d earlier writers written ab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eth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chance? when 13 colonies decided or were forced to become indepen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we know it as Yankee Doo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song arguing righteousness can overcome op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sing a school s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s were popular cuz they compressed complicated ideas and created feelings of unity and determ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characteristic of the Age of Reason because he was more concerned with life on earth--as an inventor he developed the Franklin stove, improved city's pavements, street lighting, sanitation, fire companies and police, ran a magazine and newspaper, founded a hospital, the first circulating library, and the U. of Penn, studied earthquakes, ocean currents, and wind,invented or improved the lightening rod, bifocal glasses, a device for lifting books off high shelves, a rocking chair that could swat flies, served as the first Postmaster General, assisted in creating the Decl of Indep and the Constitution, first American millio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is be inspirational to defeated soldiers.  What does he mean by the summer soldier and sunshine patri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8D04-FF6D-4524-9242-684C6FFC3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5E5-46CD-4E4A-957A-792BB01A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0AE-351C-4AEF-B5DC-D8EEF48C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4F7-2592-4114-ABDA-D96856E0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11B-0BE0-425B-A2EC-5A9980C3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57A-83EE-4FFD-BA68-9099F25E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708-4BDE-4D8E-8EDB-EA158B20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767-7E0D-4F99-91FD-19EC8B95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409-D0F8-47EE-9715-26BA5957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553-8612-41F3-A481-E3B9DDE5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B03-BE91-4BF0-96C3-B9F87B23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98C-D6E4-4108-8ADA-4EB8063F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8E9-E749-4ED6-BE3B-57769DEF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669F-52DF-4E7C-B9A0-C5A00F2EE4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wo Hundred Years of American Literatur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1600 to 18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Reason for 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ir own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events in those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ge of Reas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could manage themselves and their societies without depending on authorities and past tra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ived on freed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ch, reli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question and exper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rbitrary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Leading Writers of Perio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ed themselves with state of life on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little interest in the hereaf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ote about science, ethics, and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chance to test ideas about freedom and progress by creating a new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e American Revolut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ght not only with muskets but also with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mphlets--Common Sense by Thomas P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ays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event influencing the change of spirit in which they wr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ar of words directed toward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mp Act of 17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pay for French and Indian W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ton Tea Party 17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sted a new tax on t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ss tea into harb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Parliament closed Boston Harb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d food supp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pped t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raged citiz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nsend Acts 17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ston Massacre 17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ar not declared but Revolution had begu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ing at Philadelph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k Henry in Virginia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Jefferson and the Declaration of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 different revolution-cultur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inspired people to express their feelings as they had never done 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ities grew--population doub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s flourish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aters &amp; first Native American 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American epic po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museu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American ar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Benjamin Franklin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meri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adelphia pr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al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or Richard’s Alman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itty say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ost popular of early almana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2114640" cy="2619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54864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windows.umich.edu/cgi-bin/tour_def/people/enlightenment/franklin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fd293"/>
                </a:solidFill>
                <a:latin typeface="Arial"/>
              </a:rPr>
              <a:t>The Autobiograph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in first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f that his life might serve as an example of behaviors to be both initiated and avoi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how he left Boston and became a printer in Philadelph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al per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atrick Henry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ch in the Virginia Co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d respect for those who disapproved of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rhetorica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a logical argu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parallel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ust fight! I repeat it, sir, we must fight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5867280"/>
            <a:ext cx="83818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ck Henry picture. [Online] available http://www.a1.com/history/phenrys.jpg,April 28,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erpetua"/>
              </a:rPr>
              <a:t>Puritanism</a:t>
            </a:r>
            <a:endParaRPr b="0" lang="en-US" sz="8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114640"/>
            <a:ext cx="4033800" cy="3494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620- 17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igious beliefs import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est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ne 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inness str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irituality str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Reasons for figh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y will never be stro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on our side and He will provide al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will come, like it or n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omas Pa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 1775--right place, righ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 of Continental A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e read to defeated a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an argument by ana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53000" y="1641600"/>
            <a:ext cx="4033800" cy="4443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6172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dpipc.com/cdadesign/paine/home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762120"/>
            <a:ext cx="8076960" cy="56386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are the times that try men’s sou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mer soldier and the sunshine patriot 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risis shrink from the service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country; but he that stands it no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rves the praise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s of man and woma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omas Jefferson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able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mpion of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2209680" cy="2867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6019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whitehouse.gov/WH/glimpse/presidents/html/tj3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e Declaration of Independenc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 in reason that the world would understand American actions if explai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reasonable--King cruel and r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and legal rights vio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exists by consent of gov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Revolution--grand risky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s literature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argument--clear beginning, middle, &amp;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 statement of 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with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Letters from an American Farmer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by De Creveco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 great circle by using knowledge and skills of Old World to create and build a bette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the definition of an Ameri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bigail Addam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an’s view of Washington, White House and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ctations versus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hillis Wheatle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widely applauded American po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poems defended American 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s Excellency General George Washingt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ghast at injustices befallen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hington’s army compared to storm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ifies England regretting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 Voice of Her Ow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first poem appeared when she was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9798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fd293"/>
                </a:solidFill>
                <a:latin typeface="Perpetua"/>
              </a:rPr>
              <a:t>Puritanism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"/>
              </a:rPr>
              <a:t>Personal writings- journals, histories, serm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"/>
              </a:rPr>
              <a:t>Primarily non-fi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"/>
              </a:rPr>
              <a:t>Some fiction- poe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"/>
              </a:rPr>
              <a:t>Topics were religious and historic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Olaudah Equiano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ave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biased view from a slave’s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Medium"/>
              </a:rPr>
              <a:t>Classicism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A split from true Purit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 “</a:t>
            </a: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Great Chain of Being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Applied to all levels of 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Franklin Gothic Medium"/>
              </a:rPr>
              <a:t>Hierarchy of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Franklin Gothic Medium"/>
              </a:rPr>
              <a:t>The Cruc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Popularity began to wane during Age of Rea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Material possessions become import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Franklin Gothic Medium"/>
              </a:rPr>
              <a:t>Classicism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Focus on correctness and simpli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Emphasized order and dig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Puritan writ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Some Age of Reason wri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Began in England in 1700’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Revolutionary Perio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60-18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Age of Reason</a:t>
            </a:r>
            <a:r>
              <a:rPr b="0" lang="en-US" sz="8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760-180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nlightenmen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ason importan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reedom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tressed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59400" y="1600200"/>
            <a:ext cx="241920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Age of Reason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 emphasis on relig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eation of new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merica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suasive writings- letters, essays, speeches, autobiograph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-fiction gen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Age of Reason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ction becoming more prevalent- poetry, plays, nov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opics were science, ethics, gover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tural r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8:06:11Z</dcterms:created>
  <dc:creator>RPS</dc:creator>
  <dc:description/>
  <dc:language>en-US</dc:language>
  <cp:lastModifiedBy>Administator</cp:lastModifiedBy>
  <dcterms:modified xsi:type="dcterms:W3CDTF">2006-10-24T13:48:14Z</dcterms:modified>
  <cp:revision>8</cp:revision>
  <dc:subject/>
  <dc:title>Two Hundred Years of American Literature</dc:title>
</cp:coreProperties>
</file>